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kr.youtube.com/watch?v=tO-hLHA-us0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kr.youtube.com/watch?v=tXwBGL1a8ZE" TargetMode="External"/><Relationship Id="rId8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users.utu.fi/hansalmi/wagner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4227480" y="977760"/>
            <a:ext cx="4549680" cy="62359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RICHARD WAGNER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Jenny Cho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World Hist. G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Brief Biography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Born in Leipzig, Germany on May 22,1813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Loved theatre when he was young, due to stepfather’s influenc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German composer and director; wrote thirteen operas and numerous other composi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ied on Feb. 13, 1883 in Venice, Italy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His Work: How it affected the opera scene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many western productions are based on Wagner’s opera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nfluenced musicians, poets, playwrights, and painter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 ‘taste’ of his work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pointed to the beginnings of the Romantic period and beyond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agner was a very passionate man and most of his operas were a result from this passion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eme of most of his work is how desire can cause great suffering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Samples of his Work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ie Liebesverbo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4"/>
              </a:rPr>
              <a:t>http://kr.youtube.com/watch?v=tO-hLHA-us0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ienzi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7"/>
              </a:rPr>
              <a:t>http://kr.youtube.com/watch?v=tXwBGL1a8Z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Wagner &amp; German Nationalism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en came the Students' Association. The League of Virtue was founded. All so fantastic that no human being could grasp it. But I did. Now it is me no one grasps: I am the most German being, I am the German spirit. Question the incomparable magic of my works, compare them with the rest: and you can, for the present, say no differently than that - it is German. But what is this German? It must be something wonderful, mustn't it, for it is humanly finer than all else? - Oh heavens! It should have a soil, this German! I should be able to find my people! What a glorious people it ought to become. But to this people only could I belong. -Wagner, Richard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Wagner &amp; German Nationalism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 lot of his work was based on old German myths and stori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portrayed a lot of German culture in his opera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Interesting Fact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ichard has been classified as a anarchist, socialist, proto-fascist (right-winged), and nationalist.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ichard had three years of formal training in music theory, but he never learned how to play a specific instrument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Bibliography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elsenfeld, Daniel, and Donna Getzinger. Richard Wagner and German Opera (Masters of Music). Greensboro, North Carolina: Morgan Reynolds Publishing, 2004. 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“</a:t>
            </a: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Richard Wagner Archive.” 3 Dec 2008 &lt;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oefler Text"/>
                <a:hlinkClick r:id="rId4"/>
              </a:rPr>
              <a:t>http://users.utu.fi/hansalmi/wagner.html</a:t>
            </a: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&gt;.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ct val="100000"/>
              </a:lnSpc>
              <a:spcBef>
                <a:spcPts val="2801"/>
              </a:spcBef>
              <a:buSzPct val="1275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“</a:t>
            </a: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ABC-CLIO: World History: Modern: Entry Display.” 3 Dec 2008 &lt;</a:t>
            </a:r>
            <a:r>
              <a:rPr b="0" lang="en-US" sz="2400" spc="-1" strike="noStrike" u="sng">
                <a:solidFill>
                  <a:srgbClr val="4b4b4b"/>
                </a:solidFill>
                <a:uFillTx/>
                <a:latin typeface="Hoefler Text"/>
              </a:rPr>
              <a:t>http://www.worldhistory.abc-clio.com/Search/Display.aspx?categoryid=22&amp;entryid=316170&amp;searchtext=richard+wagner&amp;type=simple&amp;option=all</a:t>
            </a: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&gt;.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